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4.pct" ContentType="image/x-pict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FD1F-63A2-4D63-B331-5646C4FB8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CC04-5294-4558-BBCD-806187D1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9F69-8EC6-460E-8D38-D87CB6A0C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60B9-797F-4FAE-B88C-204F31AD1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C1A1-9487-44EE-9646-E249C29A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C962-5B61-4B0E-8D3F-08E53962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7FC9-0212-498B-8FF1-DEC0BFA7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1EBE-A03F-4E87-BFB2-0CE36AFB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3FC4-4D36-47DD-BB48-09FC2991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2A2D-07F6-4813-99BA-9D72AA8F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13B7-21C6-4567-B9CF-8B91820D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DCFD-F1DE-4EBA-9BE1-77E27D4B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CB45-4F75-477A-8FF5-DBF16BB33786}" type="slidenum">
              <a:rPr b="0" lang="en-US" sz="14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4.pct"/><Relationship Id="rId4" Type="http://schemas.openxmlformats.org/officeDocument/2006/relationships/image" Target="../media/image11.pct"/><Relationship Id="rId5" Type="http://schemas.openxmlformats.org/officeDocument/2006/relationships/image" Target="../media/image12.pct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40"/>
                </a:solidFill>
                <a:latin typeface="Arial"/>
              </a:rPr>
              <a:t>PHOTOSYNTHESIS</a:t>
            </a: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9246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40"/>
                </a:solidFill>
                <a:latin typeface="Arial"/>
              </a:rPr>
              <a:t>IV. Stages of Photosynthesis</a:t>
            </a: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. Dark Reaction - also known as the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alvin Cycl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1. Glucose (C6H12O6) is mad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. absorbs carbon dioxide from the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ir and combines it with hydrogen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rom the light reaction (ATP made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uring light reaction provides the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nergy for this process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40"/>
                </a:solidFill>
                <a:latin typeface="Arial"/>
              </a:rPr>
              <a:t>IV. Stages of Photosynthesis</a:t>
            </a: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. 1. b. converts light energy to stored chemical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energy in the bonds of carbohydrate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molecules (sugars &amp; starches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. occurs all day and for a short time into the 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ark - as long as there is ATP and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ADP.H2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40"/>
                </a:solidFill>
                <a:latin typeface="Arial"/>
              </a:rPr>
              <a:t>IV. Stages of Photosynthesis</a:t>
            </a: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. 1.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. excess glucose (soluble) is converted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nto an insoluble starch for storage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(more stable) - mainly in the seeds &amp;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oo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066680" y="3200400"/>
            <a:ext cx="7162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40"/>
                </a:solidFill>
                <a:latin typeface="Arial"/>
              </a:rPr>
              <a:t>V. Additional Information</a:t>
            </a: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*When photosynthesis has stopped, plants use the process of cellular respiration to break down some of their stored carbohydrates for energ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*Plants respire all day long but photosynthesis occurs at a faster rate than respiratio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*Consequently, plants give off  oxygen during the day and carbon dioxide at nigh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8040"/>
                </a:solidFill>
                <a:latin typeface="Arial"/>
              </a:rPr>
              <a:t>The End!</a:t>
            </a:r>
            <a:endParaRPr b="0" lang="en-US" sz="7000" spc="-1" strike="noStrike">
              <a:solidFill>
                <a:srgbClr val="008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40"/>
                </a:solidFill>
                <a:latin typeface="Arial"/>
              </a:rPr>
              <a:t>I. Photosynthesis</a:t>
            </a: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Occurs in chloroplasts of eukaryotic cell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urpose: To convert light energy into stored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hemical energy (food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1.  Energy is stored in the bonds of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arbohydrate molecules - sugars &amp;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tarch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1722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40"/>
                </a:solidFill>
                <a:latin typeface="Arial"/>
              </a:rPr>
              <a:t>I. Photosynthesis</a:t>
            </a: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. 2. All life is dependent on the energy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xed by plant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3. Plants are called autotrophs or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oducers because they are able to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ake their own foo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4191120"/>
            <a:ext cx="2666880" cy="2286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505320" y="4191120"/>
            <a:ext cx="2438280" cy="2286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172200" y="4191120"/>
            <a:ext cx="2590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40"/>
                </a:solidFill>
                <a:latin typeface="Arial"/>
              </a:rPr>
              <a:t>II. Pigments of Photosynthesis</a:t>
            </a: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3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lorophyll - traps light energy in the 1st stage of photosynthesis without being permanently changed (catalyst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3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lorophyll absorbs all wavelengths (colors) of light except green (and some yellow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4343400"/>
            <a:ext cx="75438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40"/>
                </a:solidFill>
                <a:latin typeface="Arial"/>
              </a:rPr>
              <a:t>II. Pigments of Photosynthesis</a:t>
            </a: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. Accessory Pigment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xamples: xanthophylls - yellows; carotene - orange; anthocyanin - re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1. Purpose: to absorb wavelengths of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light that are missed by chlorophyl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3880" y="2743200"/>
            <a:ext cx="63248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40"/>
                </a:solidFill>
                <a:latin typeface="Arial"/>
              </a:rPr>
              <a:t>II. Pigments of Photosynthesis</a:t>
            </a: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.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2. In the fall, less light and low temperature cause chlorophyll to be damaged.  It breaks down and reveals the other pigments present in the leaf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3505320"/>
            <a:ext cx="73152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40"/>
                </a:solidFill>
                <a:latin typeface="Arial"/>
              </a:rPr>
              <a:t>III.  Factors that Affect Photosynthesis Rate</a:t>
            </a: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3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emperatur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3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mount of Carbon Dioxide Availabl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3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ntensity of Ligh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3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lor of Ligh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3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mount of Wate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391520" y="3200400"/>
            <a:ext cx="1371600" cy="3276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38080" y="50292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438280" y="50292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038480" y="50292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5638680" y="5029200"/>
            <a:ext cx="15242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40"/>
                </a:solidFill>
                <a:latin typeface="Arial"/>
              </a:rPr>
              <a:t>IV. Stages of Photosynthesis</a:t>
            </a: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3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Light Reaction - occurs only in the presence of ligh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47920" y="3352680"/>
            <a:ext cx="58672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40"/>
                </a:solidFill>
                <a:latin typeface="Arial"/>
              </a:rPr>
              <a:t>IV. Stages of Photosynthesis</a:t>
            </a: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1.  (Water Splits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a. oxygen goes out into the 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                  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atmosphere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b. energy from broken bonds picked 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                  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up and stored as ATP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c. hydrogen from water (H) attaches to 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    NADP (a carrier molecule) to prevent 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                    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it from reacting with anything else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6:30:06Z</dcterms:created>
  <dc:creator>Clayton Johns</dc:creator>
  <dc:description/>
  <dc:language>en-US</dc:language>
  <cp:lastModifiedBy>Clayton Johns</cp:lastModifiedBy>
  <dcterms:modified xsi:type="dcterms:W3CDTF">2008-11-11T01:49:15Z</dcterms:modified>
  <cp:revision>3</cp:revision>
  <dc:subject/>
  <dc:title>PHOTOSYNTHESIS</dc:title>
</cp:coreProperties>
</file>